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2C2-120D-48DC-955C-DF74AFC4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E5B-C7F9-4055-BB42-3FBC8DC8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257-E20F-4AF7-90C2-436344BC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911-FE76-47C7-B447-3621D4F6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4E80-BC8C-4217-84AD-20EE5B39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BE21-C799-4AF6-93EA-8D0EAD2F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8170-CC74-4604-95E3-828E1475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085C-370E-4F67-98DA-C4DFB0FB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546D-4F8E-44EC-B2FB-749C13B6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3F18-C015-4E85-BD54-4FF98584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8887-0C2C-4F29-995B-25E8DF59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48C-BE25-4F1E-96CE-47B3B2BB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543C-AAED-43B5-A8D5-FFC71922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684F-58FA-42F5-8981-283AE0F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939A-255F-4B50-A248-DD2FFE0C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CA6B-A783-42AA-88C1-63B6EC96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03E6-C8E3-4169-A5C5-3419856B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178-B458-457C-9B9F-6751446A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EA8-6A69-4C29-9514-E43AA9A9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2AD-9E12-443B-BBEC-466759E2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514-FC5D-4091-A37C-9D2D62F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260-46C1-44A0-A40C-DD3C874E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BFE-B7D3-4318-9A77-6B6969F3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C3A-8588-4135-9001-24B5953A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900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99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349280"/>
            <a:ext cx="990900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99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28680"/>
            <a:ext cx="990900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220011"/>
              </a:gs>
              <a:gs pos="100000">
                <a:srgbClr val="99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52680"/>
            <a:ext cx="990900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56002b"/>
              </a:gs>
              <a:gs pos="100000">
                <a:srgbClr val="99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79840" y="1920960"/>
            <a:ext cx="722916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99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67240"/>
            <a:ext cx="990900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56002b"/>
              </a:gs>
              <a:gs pos="100000">
                <a:srgbClr val="99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654360"/>
            <a:ext cx="643572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99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9D81-A49A-4EF0-87FA-F5A08A936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900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99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9280"/>
            <a:ext cx="990900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99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8680"/>
            <a:ext cx="990900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220011"/>
              </a:gs>
              <a:gs pos="100000">
                <a:srgbClr val="99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52680"/>
            <a:ext cx="990900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56002b"/>
              </a:gs>
              <a:gs pos="100000">
                <a:srgbClr val="99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79840" y="1920960"/>
            <a:ext cx="722916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99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67240"/>
            <a:ext cx="990900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56002b"/>
              </a:gs>
              <a:gs pos="100000">
                <a:srgbClr val="99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654360"/>
            <a:ext cx="643572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99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1821-338F-40C9-972F-1F460EC7967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0240" y="1676160"/>
            <a:ext cx="8420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ciocínio &amp; Açã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ultoria e Pesquisa Ltd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0240" y="3657600"/>
            <a:ext cx="8420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ssociados ao AN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v. Pedroso de Morais, 709 - Pinheir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05419-000 - São Paulo - S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Fone / Fax:( 0xx11) 814.619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e-mail: raciocinio@sti.com.b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69080" y="5943600"/>
            <a:ext cx="3137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2680" y="2286000"/>
            <a:ext cx="8420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eiramente é muito estável, com ativos e capital de giro próp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03480" y="5943600"/>
            <a:ext cx="3302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ste continuamente na formação de pessoal e na qualidade de seus serviços (coleta de dados em campo, recrutamento, qualidade  de planejamento e anális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69080" y="5867280"/>
            <a:ext cx="3137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218960"/>
            <a:ext cx="866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étodo de Trabalh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alitativ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- Utiliza-se de técnicas projetivas, do aprofundamento de consciência, bem como da cromologia, como elementos para análise de resul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69080" y="5943600"/>
            <a:ext cx="3137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3040" y="990360"/>
            <a:ext cx="8585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a-se muito dos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írculos de posicionamen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que pressupõem a utilização de um ego auxiliar que, ao término da discussão em grupo, posiciona os diferentes conceitos, atributos e marcas enunciados em 3 esferas. O resultado desta técnica permite-nos uma clareza sobre posicionamento e  arena competiti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1160" y="6019920"/>
            <a:ext cx="3054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7920" y="609480"/>
            <a:ext cx="75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figuração final dos círculos seria, como 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12193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ca A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11560" y="1447920"/>
            <a:ext cx="3508200" cy="3238560"/>
          </a:xfrm>
          <a:prstGeom prst="ellipse">
            <a:avLst/>
          </a:prstGeom>
          <a:noFill/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49600" y="3048120"/>
            <a:ext cx="3508560" cy="32385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05200" y="1523880"/>
            <a:ext cx="3508560" cy="3238560"/>
          </a:xfrm>
          <a:prstGeom prst="ellipse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" y="2973240"/>
            <a:ext cx="1565280" cy="45828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a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6480" y="4192560"/>
            <a:ext cx="1647720" cy="4582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a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35200" y="5183280"/>
            <a:ext cx="1565280" cy="45828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4120" y="2057400"/>
            <a:ext cx="1981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ce    Crocante Macio Amar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08840" y="1905120"/>
            <a:ext cx="20635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ocolate espe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i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40320" y="4572000"/>
            <a:ext cx="1816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uxo Presente Status Pres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3352680"/>
            <a:ext cx="57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120" y="4495680"/>
            <a:ext cx="288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** Chocolate Id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2514600"/>
            <a:ext cx="107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2040" y="4038480"/>
            <a:ext cx="156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95920" y="3809880"/>
            <a:ext cx="132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éria p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1920"/>
            <a:ext cx="2558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Atributo X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x.:Aspectos Organolé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3400" y="5637960"/>
            <a:ext cx="206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00"/>
                </a:solidFill>
                <a:latin typeface="Times New Roman"/>
              </a:rPr>
              <a:t>Atributo Z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- Ex.: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75400" y="1065600"/>
            <a:ext cx="2183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cc"/>
                </a:solidFill>
                <a:latin typeface="Times New Roman"/>
              </a:rPr>
              <a:t>Atrib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66cc"/>
                </a:solidFill>
                <a:latin typeface="Times New Roman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x.: Aspectos de Imag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69080" y="6019920"/>
            <a:ext cx="3137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planejamento e a análise da pesquisa qualitativa são feitos com pelo menos dois analistas, evitando-se um eventual viés de interpret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03480" y="5943600"/>
            <a:ext cx="3302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antitat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-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az todos os estudos quantitativos  de mercado: produto, conceito, comunicação, hábitos, atitude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controle de campo próp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95560" y="5714640"/>
            <a:ext cx="421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371240"/>
            <a:ext cx="84200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ssui cinco CATI’s para pesquisas por telefone, o que possibilita estudos mais rápidos, econômicos e com amostras nacionais. As pesquisas telefônicas são muito úteis para pesquisar qualidade, preço conceito, recall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588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supervisores de campo e críticos própri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95560" y="5714640"/>
            <a:ext cx="421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7920" y="1981080"/>
            <a:ext cx="8089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em seu próprio estatístico, o que facilita o planejamento dos estudos, bem como da amostra, na implementação de novos modelos de pesquisas quantita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20840" y="2209680"/>
            <a:ext cx="6934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38960" y="594360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95560" y="5714640"/>
            <a:ext cx="421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TOS   ESPE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1160" y="5943600"/>
            <a:ext cx="3054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609480"/>
            <a:ext cx="84200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LITY SH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anco “A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iddle mar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duto -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47560" y="3200400"/>
          <a:ext cx="52326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3200400"/>
                    <a:ext cx="52326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288040" y="3187800"/>
          <a:ext cx="443232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8040" y="3187800"/>
                    <a:ext cx="44323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7836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5480" y="1980720"/>
            <a:ext cx="80899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“gap” entre “Share of Market” e “Share of Quality” dá uma dimensão das oportunidades tanto para o BANCO “A” como para os Bancos concorr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95560" y="5714640"/>
            <a:ext cx="421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YALTY    SH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36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42098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A LEAL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DIA LEAL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IXA LEAL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35680" y="914040"/>
            <a:ext cx="445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áve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ç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i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ção com o produ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tido de pertin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ntade de não mudar /  vontade de experimen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13480" y="5714640"/>
            <a:ext cx="429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7920" y="198072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te estudo é cruzado por bandeiras de classificação demográfica e psicográfica. Deste modo,  pode-se mapear  em que segmento reside a maior vulnerabilidade da mar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613480" y="5714640"/>
            <a:ext cx="429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NAS DE C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90640" y="2362320"/>
          <a:ext cx="745488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2362320"/>
                    <a:ext cx="74548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13480" y="5943600"/>
            <a:ext cx="4292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2680" y="7621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NAS DE C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25560" y="2360520"/>
          <a:ext cx="8388360" cy="44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2360520"/>
                    <a:ext cx="838836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613480" y="5714640"/>
            <a:ext cx="429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744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valiação Competi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EMPLO:  DONAS DE CASA - Segmentação Demográ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14520" y="2022480"/>
          <a:ext cx="8921520" cy="483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022480"/>
                    <a:ext cx="892152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613480" y="5943600"/>
            <a:ext cx="4292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7320" y="456840"/>
            <a:ext cx="9658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valiação Competi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XEMPLO:  DONAS DE CASA - Segmentação Psicográ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190520" y="1625760"/>
          <a:ext cx="836784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1625760"/>
                    <a:ext cx="836784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86280" y="5867280"/>
            <a:ext cx="3219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60240" y="2590560"/>
            <a:ext cx="8420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mpresa voltada a pesquisa Quali - Quanti, com o objetivo de ajudar gerencialmente seus cli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695560" y="5714640"/>
            <a:ext cx="421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3040" y="2742840"/>
            <a:ext cx="8337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  PERFORMANCE 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78360" y="5943600"/>
            <a:ext cx="4127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3040" y="457200"/>
            <a:ext cx="850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GRAPH 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ção do nível aprofundado de consciência, através do relax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pessoas são expostas a um estímulo-produto e imaginam um comercial na “telinha mental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seguida há uma interação grup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7836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5120" y="456840"/>
            <a:ext cx="8502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KING STORY BOA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 comercial é exib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ível de aprofundado de consciência é induzido, através de relaxa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tando ao nível normal de consciência, o comercial é discutido, vindo à tona as emoções suscitadas e a intenção de compr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7836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5120" y="685800"/>
            <a:ext cx="8007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r telefone e / ou visitas domiciliares, cruzadas, quando for o caso, pela segmentação psicográfic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ioneiro(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ovador(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Inovador(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fratário(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78360" y="6019920"/>
            <a:ext cx="41277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456840"/>
            <a:ext cx="8007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PREDIC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95440" y="1906560"/>
            <a:ext cx="6518520" cy="824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ção da incidência domiciliar de produto com característica de mercado em que atu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276720"/>
            <a:ext cx="1878120" cy="824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stas do entrevi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505320"/>
            <a:ext cx="360360" cy="40932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ff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200400"/>
            <a:ext cx="1647720" cy="1555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licação do algoritmo corre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3581280"/>
            <a:ext cx="360360" cy="40968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ff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3352680"/>
            <a:ext cx="1648080" cy="1189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imativa bruta de ve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3505320"/>
            <a:ext cx="360360" cy="40932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ff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2743200"/>
            <a:ext cx="360360" cy="409680"/>
          </a:xfrm>
          <a:prstGeom prst="downArrow">
            <a:avLst>
              <a:gd name="adj1" fmla="val 50000"/>
              <a:gd name="adj2" fmla="val 28432"/>
            </a:avLst>
          </a:prstGeom>
          <a:solidFill>
            <a:srgbClr val="ff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4419720"/>
            <a:ext cx="360360" cy="409320"/>
          </a:xfrm>
          <a:prstGeom prst="upArrow">
            <a:avLst>
              <a:gd name="adj1" fmla="val 50000"/>
              <a:gd name="adj2" fmla="val 28386"/>
            </a:avLst>
          </a:prstGeom>
          <a:solidFill>
            <a:srgbClr val="ff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3505320"/>
            <a:ext cx="360360" cy="40932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ff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6480" y="3201840"/>
            <a:ext cx="1647720" cy="1189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imativa de vendas por 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37120" y="4878360"/>
            <a:ext cx="4206960" cy="45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ção da variável t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695560" y="6019920"/>
            <a:ext cx="421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87400" y="1986120"/>
          <a:ext cx="802152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1986120"/>
                    <a:ext cx="802152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5120" y="380880"/>
            <a:ext cx="8420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/ Intenção de compra consolid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ço: Alternativa A R$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695560" y="6171840"/>
            <a:ext cx="421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5120" y="380880"/>
            <a:ext cx="8420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/ Intenção de compra consolid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ço: Alternativa A R$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87400" y="1986120"/>
          <a:ext cx="802152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1986120"/>
                    <a:ext cx="802152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695560" y="6019920"/>
            <a:ext cx="421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5120" y="380880"/>
            <a:ext cx="8420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/ Intenção de compra consolid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ço: Alternativa A R$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58720" y="1986120"/>
          <a:ext cx="8678880" cy="40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986120"/>
                    <a:ext cx="867888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95560" y="6019920"/>
            <a:ext cx="421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5120" y="380880"/>
            <a:ext cx="8420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/ Intenção de compra consolid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ço: Alternativa A R$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58720" y="1986120"/>
          <a:ext cx="8678880" cy="41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986120"/>
                    <a:ext cx="867888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95560" y="5943600"/>
            <a:ext cx="4210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5120" y="380880"/>
            <a:ext cx="8420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/ Intenção de compra consolid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ço: Alternativa A R$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58720" y="1986120"/>
          <a:ext cx="8678880" cy="41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986120"/>
                    <a:ext cx="867888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42680" y="236196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ara  a  pesquisa  como  um  meio  de levantar dados para auxiliar o processo de tomada de decisõ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86640" y="5867280"/>
            <a:ext cx="3219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21400" y="5943600"/>
            <a:ext cx="338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3040" y="685440"/>
            <a:ext cx="8502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DOEXO 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doexo: O funcionário é a  principal  mídia da empres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286000"/>
            <a:ext cx="8654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272160" indent="-272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põ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2160" indent="-2721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quisa de satisfação / adequação e auto-imagem do público interno (funcionários e fornecedores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2160" indent="-2721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quisa de imagem junto ao público externo sobre a organização e sobre o atendimento que rece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7836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0071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DOEXO 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sultado final - Análise dos Gap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dicação de como trabalhar o pessoal interno, de maneira a atingir os objetivos organizacion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38600" y="6019920"/>
            <a:ext cx="3467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7560" y="533160"/>
            <a:ext cx="8007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FATORI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1373040"/>
            <a:ext cx="0" cy="4341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2160" y="5562720"/>
            <a:ext cx="8253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5562720"/>
            <a:ext cx="775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   4.1    4.2    4.3    4.4    4.5    4.6    4.7    4.8    4.9   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2920" y="1447920"/>
            <a:ext cx="9079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00.090.080.070.060.050.040.030.020.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960" y="2971800"/>
            <a:ext cx="7427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356520" y="1525320"/>
            <a:ext cx="0" cy="411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86080" y="2971800"/>
            <a:ext cx="50353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AVERAGE:0.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atical to carry in my wallet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Times New Roman"/>
              </a:rPr>
              <a:t>LOW IMPACT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iced family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cenient for bus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provides good exchang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AVERAGE: 4.6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56520" y="3048120"/>
            <a:ext cx="330192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venient for my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Pra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asy to be acquired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ery safe way to cary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 get good service at the Bank when purchasing it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86080" y="1371600"/>
            <a:ext cx="47876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HIGH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road Acceptance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Good for all types of expenses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s easy recover the balance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56520" y="1600200"/>
            <a:ext cx="272412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Well kn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asy to understand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asy to use </a:t>
            </a: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21400" y="5943600"/>
            <a:ext cx="338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88012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aciocínio &amp; Ação Consultoria e Pesquis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reflete a experiência de seu principal Executivo e Diretor Presidente: José Orlando Portugal Dan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José Dant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tem uma experiência executiva de 30 anos entre marketing, vendas, comercialização e 10 anos em consultoria e pesqui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balhou em empresas como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J.W.Thompso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pesquisa),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lgate Palmoliv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áreas de produtos e serviços a Marketing, incluindo pesquisa),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eagram do Brasi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Gerente de Marketing)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redicard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Superintendência de Marketing) 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hase Manhatta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Diretor do Individual Bank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21400" y="5943600"/>
            <a:ext cx="338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7800" y="1752480"/>
            <a:ext cx="429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endimento Quali / Qua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riana Maciei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tudos Qualit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pasia Papazanak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rina T. Franci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ra Libe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65800" y="1676520"/>
            <a:ext cx="429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tudos Quantit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árcio Roberto Silva (estatíst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manta do Prado Al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alisa Ribeiro Barb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ernanda Giorgia S. Sou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na Claudia Cam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ernanda Lima Menegh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49600" y="685800"/>
            <a:ext cx="2806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7836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5480" y="106668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ssa equipe gosta do que faz e procura sempre se superar nos nossos objetivos e meta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É uma equipe que reúne experiências, jovialidade e dinamism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to resulta na satisfação de nossos clientes, que são os nossos melhores divulgador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933960" y="6019920"/>
            <a:ext cx="2971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0120" y="914040"/>
            <a:ext cx="4788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Óleos Natura - Contyme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igna Segurador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Grupo V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Lojas American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Nitro Química -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Grupo Votoranti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Lindt &amp; Sprüngli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(Auror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Grupo Arc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Sharp do Bras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8120" y="1295280"/>
            <a:ext cx="478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Warner Home Víde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U.B.V.  - União Bras. de Víde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Lever Home Car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Lever Personal Was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SU CardSystem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Janssen Cilag (Div. Farm. da J&amp;J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Quartzoli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8640" y="457200"/>
            <a:ext cx="60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ES  ATU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38600" y="6095520"/>
            <a:ext cx="3467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0120" y="914040"/>
            <a:ext cx="4788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Visa do Bras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Visa Internacional - Miam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artões de Crédito Banco Re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artões de Crédito Banco de Bost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Novartis Biociências S.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(Bio Galênica / Sandoz / Cib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65800" y="1295280"/>
            <a:ext cx="4540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Banco Sudameris Bras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astrol do Bras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Brahm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Bristol Mey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Revista Vip Exa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Rhodia Farm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Prever Seguros e Previdênc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98640" y="457200"/>
            <a:ext cx="60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ES  ATU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7836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2920" y="533160"/>
            <a:ext cx="90360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ÚBLICO INFANT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lançou seu programa de pesquisa junto ao público infantil, consciente de 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mercado infantil representa um universo de 70 - 80 milhões de consumidores, que decidem a compra ou influenciam o processo da mes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público infantil não é um “adulto pequeno” e sim consumidores com um universo totalmente próp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7836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6091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INCIPAIS 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todologias de pesquisa Quali / Quanti adaptadas ao público infantil, visando obter respostas para atender as necessidades dos seguintes tes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349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stes de conce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349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ste de produ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349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ste de campanha / comun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349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fetividade promo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349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ales pred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349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ultifatoriabil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42680" y="2362320"/>
            <a:ext cx="8420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us profissionais já tiveram experiência em campo, tabulação, análise e também na compra e utilização da pesqui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86640" y="5867280"/>
            <a:ext cx="3219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95560" y="5714640"/>
            <a:ext cx="421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448240" y="1523520"/>
            <a:ext cx="3880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Interações grupais -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Técnicas projetivas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Projetiv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Show and tel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romolog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Dinâmicas associativ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0240" y="1523880"/>
            <a:ext cx="454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Entrevistas em profundida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Roteiro adaptado com estimulações específ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Proje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nteração com o entrevistador - psicólogo infant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Utilização de técnicas ludoterap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36960" y="609480"/>
            <a:ext cx="766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ORDAGEM DA PESQUISA Q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78360" y="5714640"/>
            <a:ext cx="41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837720"/>
            <a:ext cx="90802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ejamento da amostra e definição de questionário / mode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aptação dos questionários, adaptação das escalas de avaliação, das escalas de intenção de compra e das escalas de “persuasão ao adulto” por parte do universo infantil, de acordo com a faixa et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77440" y="4419360"/>
            <a:ext cx="9099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NCIPAIS FAIXAS ETÁRIAS PESQUIS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- 5 anos  /  5 -7 anos  /  8 -10 anos  /  11 - 12 anos  /  13 -15 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03560" y="533520"/>
            <a:ext cx="3260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NTIT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5120" y="2057040"/>
            <a:ext cx="84200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pt-BR" sz="3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 está apta a  fazer   internalizações de resultados junto a diferentes públicos da Empresa, utilizando-se de técnicas de consultori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521400" y="5943600"/>
            <a:ext cx="338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42680" y="23623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áreas mais solicitadas pelos clientes são: Marketing, Vendas e R&amp;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86640" y="5867280"/>
            <a:ext cx="3219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240" y="24379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stá compromissada em trazer modelos estatísticos e técnicas internacionais atualizadas do exterior, adaptando-os ao Bras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603480" y="6019920"/>
            <a:ext cx="3302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99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esta serviços de consultoria para seus clientes, sempre que for acionada para 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686280" y="6019920"/>
            <a:ext cx="3219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ciocínio &amp; 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ne / Fax: 814.61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3:55:45Z</dcterms:created>
  <dc:creator>Marcio</dc:creator>
  <dc:description/>
  <dc:language>en-US</dc:language>
  <cp:lastModifiedBy>Raciocínio &amp; Ação</cp:lastModifiedBy>
  <cp:lastPrinted>1999-09-09T19:50:13Z</cp:lastPrinted>
  <dcterms:modified xsi:type="dcterms:W3CDTF">2000-02-29T21:07:34Z</dcterms:modified>
  <cp:revision>85</cp:revision>
  <dc:subject/>
  <dc:title>Raciocínio &amp; Ação  Consultoria e Pesquisa Ltda.</dc:title>
</cp:coreProperties>
</file>